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039-DECF-4129-88AA-A1ADC66E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BC6-6A6E-4416-9C0E-EC8FAA9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E8-D3E2-41B7-A405-6E0D8242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640-6AE2-4B57-9945-A2F35A80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5C74-BD14-4E26-B4EB-A835B842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04D2-D6AF-4C20-B05C-1AE3746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E9F1-C71E-42D5-9BAF-23C3D515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8AE3-E318-4C0B-AE46-C93B3BCE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22DA-087C-4295-8D6A-E64F9BE7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AA6E-533E-4F60-960E-191E16E5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65B-AEE9-4CCE-8D72-7E8BC7D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CFC-B1E1-40D2-82BB-414E54B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6F41-A5FB-4524-9969-196CF0A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4A1C-3BA0-48D1-A640-6CD788E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22AC-DDF6-472A-B0EB-24D51FB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8072-99D9-4C2B-807D-3747B1BB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78C-1CFE-4C4E-8D3E-FF8393B6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33D-D85B-4A22-A100-4901BE8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C1F-CFE9-4428-9BC5-2B47F044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FAF-B0BD-4CBB-9958-F86C131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B7D-D49B-4CD7-9715-2723568C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D8A-A503-4578-BCE0-4C6C2EC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6F6-CD5B-4426-9924-709ED6B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D2D-A51D-4899-A2AE-24E2D11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DC89-4D74-4B05-B736-4D578941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DE0-DAF7-4EA7-8472-5844B58E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extoscolaborativos.wikispaces.com/Wikis+en+Lengua+y+Literatura" TargetMode="External"/><Relationship Id="rId2" Type="http://schemas.openxmlformats.org/officeDocument/2006/relationships/hyperlink" Target="http://textoscolaborativos.wikispaces.com/Wikis+en+Lengua+y+Literatura" TargetMode="External"/><Relationship Id="rId3" Type="http://schemas.openxmlformats.org/officeDocument/2006/relationships/hyperlink" Target="http://textoscolaborativos.wikispaces.com/Wikis+en+Lengua+y+Literatura" TargetMode="External"/><Relationship Id="rId4" Type="http://schemas.openxmlformats.org/officeDocument/2006/relationships/hyperlink" Target="http://textoscolaborativos.wikispaces.com/Wikis+en+Lengua+y+Literatura" TargetMode="External"/><Relationship Id="rId5" Type="http://schemas.openxmlformats.org/officeDocument/2006/relationships/hyperlink" Target="http://textoscolaborativos.wikispaces.com/Wikis+en+Lengua+y+Literatura" TargetMode="External"/><Relationship Id="rId6" Type="http://schemas.openxmlformats.org/officeDocument/2006/relationships/hyperlink" Target="http://textoscolaborativos.wikispaces.com/Wikis+en+Lengua+y+Literatura" TargetMode="External"/><Relationship Id="rId7" Type="http://schemas.openxmlformats.org/officeDocument/2006/relationships/hyperlink" Target="http://textoscolaborativos.wikispaces.com/Wikis+en+Lengua+y+Literatura" TargetMode="External"/><Relationship Id="rId8" Type="http://schemas.openxmlformats.org/officeDocument/2006/relationships/hyperlink" Target="http://textoscolaborativos.wikispaces.com/Wikis+en+Lengua+y+Literatura" TargetMode="External"/><Relationship Id="rId9" Type="http://schemas.openxmlformats.org/officeDocument/2006/relationships/hyperlink" Target="http://textoscolaborativos.wikispaces.com/Wikis+en+Lengua+y+Literatura" TargetMode="External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ologiapoetica.wetpaint.com/?t=anon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nesunminuto.wetpaint.com/?t=anon" TargetMode="External"/><Relationship Id="rId2" Type="http://schemas.openxmlformats.org/officeDocument/2006/relationships/hyperlink" Target="http://tienesunminuto.wetpaint.com/?t=anon" TargetMode="External"/><Relationship Id="rId3" Type="http://schemas.openxmlformats.org/officeDocument/2006/relationships/hyperlink" Target="http://tienesunminuto.wetpaint.com/?t=anon" TargetMode="External"/><Relationship Id="rId4" Type="http://schemas.openxmlformats.org/officeDocument/2006/relationships/hyperlink" Target="http://tienesunminuto.wetpaint.com/?t=anon" TargetMode="External"/><Relationship Id="rId5" Type="http://schemas.openxmlformats.org/officeDocument/2006/relationships/hyperlink" Target="http://tienesunminuto.wetpaint.com/?t=anon" TargetMode="External"/><Relationship Id="rId6" Type="http://schemas.openxmlformats.org/officeDocument/2006/relationships/hyperlink" Target="http://tienesunminuto.wetpaint.com/?t=anon" TargetMode="External"/><Relationship Id="rId7" Type="http://schemas.openxmlformats.org/officeDocument/2006/relationships/hyperlink" Target="http://tienesunminuto.wetpaint.com/?t=anon" TargetMode="External"/><Relationship Id="rId8" Type="http://schemas.openxmlformats.org/officeDocument/2006/relationships/hyperlink" Target="http://tienesunminuto.wetpaint.com/?t=anon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trayil. Una recreación de Motril en la Eda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espacio se dedica a documentar las investigaciones que el alumnado de 4º A y 4º B del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CEIP Príncipe Felipe de Motri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aliza para intentar conocer cómo era la vida en Mutrayil, Motril, en la época islámic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mutrayil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esumen.wikispaces.com/sextob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dades en torno a libros en donde todos los alumnos cola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queños trabajos de investigación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socionatural.wikispaces.com/Los+anima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ema colaborativo en wiki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poemas.wikispaces.com/Deseamos+y+ofrec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arraciones colaborativas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narradores.wikispaces.com/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523880"/>
            <a:ext cx="8120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textoscolaborativos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wikispaces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8"/>
              </a:rPr>
              <a:t>Wikis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9"/>
              </a:rPr>
              <a:t>+en+Lengua+y+Li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909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igido al profesorado de Lengua Castellana y Lit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bido como una fuente de recursos para el trabajo sobre la ma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3240" y="29574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iki que refleja un trabajo colaborativo realizado por alumnos y a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yeron una antología de poemas de la Generación del 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uvo un premio el año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371600"/>
            <a:ext cx="5105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ttp://antologiapoetica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wiki que está pensado para recoger producciones orales de los alumnos y alum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resultado de una secuencia didáctica los alumnos graban textos de 100 palabras y proponen actividades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lumnos desarrollan la competencia en comunicación lingüística y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01880" y="1371600"/>
            <a:ext cx="5046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tienesunminuto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wetpaint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7"/>
              </a:rPr>
              <a:t>/?t=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8"/>
              </a:rPr>
              <a:t>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676520"/>
            <a:ext cx="73152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poemasantologia.wikispace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un wiki que recoge una antología de poemas elaborada a partir de una selección de poemas proporcionada por el prof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alumnos los han organizado por temas y los han ilustrado con imá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bién han añadido vínculos para buscar información sobre sus a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lataforma de trabajo es la propia página web (no es necesario tener instalado un software cliente en el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licaciones web 2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expresarse/crear y public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wik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publicar y buscar inform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podcas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YouTub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Flick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lideShar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Del.icio.u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acceder a información de interé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RS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XM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li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GoogleRead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uscadores especializ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Redes so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Ning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econd Lif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Twitt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calendarios, geolocalización, libros virtuales compartidos, noticias, ofimática on-line, plataformas de teleformación, pizarras digitales colaborativas on-line, portal personalizad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MPLICACIONES EDUCATIVAS DE LA WE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rmite: </a:t>
            </a: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crear, buscar, compartir e interactuar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 social horizontal y rico en fuentes de informació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rientado al </a:t>
            </a:r>
            <a:r>
              <a:rPr b="0" i="1" lang="es-ES" sz="1400" spc="-1" strike="noStrike">
                <a:solidFill>
                  <a:srgbClr val="3366cc"/>
                </a:solidFill>
                <a:latin typeface="Arial"/>
              </a:rPr>
              <a:t>trabajo autónomo y colaborativo, crítico y creativo, la expresión personal, investigar y compartir recursos, crear conocimiento y aprende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cilita u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rendizaje más autónomo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ayor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ticipación en las actividad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ales, hay má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interé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moti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aborar materi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solo o en grupo), compartir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someternos a comentari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lec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frec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s on-line para la publ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conte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actividades de aprendizaje y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 competencias dig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uscar, procesar, comunic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y gestión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es de centros y profesor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ácter más 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08-11-20T12:18:48Z</dcterms:modified>
  <cp:revision>6</cp:revision>
  <dc:subject/>
  <dc:title>Presentación de PowerPoint</dc:title>
</cp:coreProperties>
</file>